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6FF-3528-4A1E-A105-D6A96240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506160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658-6A69-4A5C-B665-F4D04527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506160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0360" y="506160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E5CF-A94E-4730-9BC8-A95023E3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1960" y="251424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8480" y="251424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506160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1960" y="506160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8480" y="506160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BEE-A68D-43DC-B93B-D8AE9B63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CE68-1C6D-4A4E-9B55-05DFCA22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7FF4-C33E-4F82-A8E2-29CFC2B0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274C-C3E0-49B2-B2EB-829E4733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6477-6D7C-496D-BDA6-AFB31A43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B49C-FFF4-4919-9791-C2E1925A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D848-E136-410F-A785-97B49AFE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506160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DAC1-F38A-4CB9-8282-A5750811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F98-53D7-49B9-B7D1-6B399DE9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90360" y="506160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0FDD-8ABE-4BEC-B90B-119FA473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506160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3E6B-FC7D-4421-AD5D-4D1C527F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506160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CCEF-2171-4151-B6F9-1D33D7D3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506160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90360" y="506160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0D56-F7CA-4662-9D9A-8216561C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1960" y="251424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38480" y="251424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506160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1960" y="506160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38480" y="506160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819A-7C6F-4B5E-B2A3-AF0C5023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9CA-5ECE-4D5F-B62E-4A3544F3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844F-F055-4DCA-B839-847238BE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031-DBF3-4F46-AAAB-2DD106A0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848-C2EF-4C6D-BB0B-74658DCA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506160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167-91F8-4108-8B1F-873F704A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0360" y="506160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751-4329-4FAB-A9BE-E87BD4B4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506160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A1AE-45F7-4A06-A24B-55AA826D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5950-241C-46F2-B7A5-DCED1FE02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DDAC-D285-42D3-A2A0-298559032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Chapter 28</a:t>
            </a:r>
            <a:br>
              <a:rPr sz="5400"/>
            </a:b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THE ONSET OF </a:t>
            </a:r>
            <a:br>
              <a:rPr sz="5400"/>
            </a:b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THE COLD WAR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99840" y="388620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America Past and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ighth Edi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Divine  </a:t>
            </a:r>
            <a:r>
              <a:rPr b="0" lang="en-US" sz="1400" spc="-1" strike="noStrike">
                <a:solidFill>
                  <a:srgbClr val="000099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 Breen  </a:t>
            </a:r>
            <a:r>
              <a:rPr b="0" lang="en-US" sz="1400" spc="-1" strike="noStrike">
                <a:solidFill>
                  <a:srgbClr val="000099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 Fredrickson  </a:t>
            </a:r>
            <a:r>
              <a:rPr b="0" lang="en-US" sz="1400" spc="-1" strike="noStrike">
                <a:solidFill>
                  <a:srgbClr val="000099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 Williams  </a:t>
            </a:r>
            <a:r>
              <a:rPr b="0" lang="en-US" sz="1400" spc="-1" strike="noStrike">
                <a:solidFill>
                  <a:srgbClr val="000099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 Gross  </a:t>
            </a:r>
            <a:r>
              <a:rPr b="0" lang="en-US" sz="1400" spc="-1" strike="noStrike">
                <a:solidFill>
                  <a:srgbClr val="000099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 Br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Marshall Plan to Aid Europe, 1948–1952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133720" y="1828800"/>
            <a:ext cx="4422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Western Military Allianc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9: North Atlantic Treaty Organiz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litary alliance included U.S., Canada, most of western Europ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.S. troops stationed in Europ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ATO intensified Russia's fear of the Wes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Berlin Blocka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June, 1948: Russians blockade of Berli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ruman ordered airlift to supply the cit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9: Russians end blockad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.S. political victory dramatized divi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Cold War Expand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7: U.S.-Russian arms race accelerate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flict expanded to As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Military Dimension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7: National Security Act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partment of Defense unified armed for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entral Intelligence Agency coordinated intelligence-gather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ational Security Council advised president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fense budget devoted to air pow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9: First Russian atomic bomb exploded, U.S. began hydrogen bomb develop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Cold War in Asi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5: U.S. consolidates hold on Japan, former Japanese possessions in Pacific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9: Victory of Mao Tse-tung brings China into Soviet orb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ruman refused recognition of Communist China, began building up Japa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Korean War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June 25, 1950: Communist North Korean forces invaded U.S.-influenced South Kore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ruman made South Korea’s defense a U.N. effort, sent in U.S. troop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.S. routed Korean forces in South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ttempt to unify Korea drew in Chin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.S. pushed back to South, war a stalema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sult: Massive American rearmament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Korean War, 1950–1953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3125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Cold War at Hom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ew Deal economic policies undermine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ears of Communist subver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publicans used anticommunism to revive their part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ruman's Trouble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bstacles to Truman’s Fair Deal refor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pathetic public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fla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or unrest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6: Republicans won Congr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Cold War Begins: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ssues Dividing U.S., U.S.S.R.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3000240"/>
            <a:ext cx="7620120" cy="439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trol of postwar Europ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i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uclear disarm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ruman Vindicated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aft-Hartley Act outlawed certain union tactic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ruman vetoed, Republicans overrode his vet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948 election:  Truman thought unelectab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rthern liberals supported Henry Wallace’s Progressive candida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outhern Democrats supported “Dixiecrat” Strom Thurmon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publican Thomas Dewey overconfident and ran bland campaign, failed to challenge Truman on Cold War because of the Berlin Crisi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oosevelt coalition reelected Truman on domestic issu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752480" y="533520"/>
            <a:ext cx="4967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Loyalty Issu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ouse Un-American Activities Committee investigated Communist subversion in govern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ruman responded with loyalty program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ger Hiss ca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mocrats blamed f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sing" China to Communism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ussia's development of a hydrogen bomb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McCarthyism in Action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50: Senator Joseph McCarthy launched anticommunist campaign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nocent overwhelmed by accusations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ttacks on privileged bureaucrats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upported by Midwest Republicans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ttracted Irish, Italian, Polish workers to Republica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Republicans in Power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52: Eisenhower captures White House for Republican Party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July 27, 1953: stalemate accepted in Kore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isenhower dealt passively with McCarth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54: Attack on Army discredited McCarthy who is then censure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Election of 1952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rcRect l="0" t="20294" r="0" b="0"/>
          <a:stretch/>
        </p:blipFill>
        <p:spPr>
          <a:xfrm>
            <a:off x="380880" y="2895480"/>
            <a:ext cx="7772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Eisenhower Wages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Cold War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isenhower prefers to work behind-the scenes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isenhower wanted to relax tensions with Sovi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bt imposed by defense spending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ssibility of atomic warfa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isenhower “new look” policy relied on massive retaliation to deter Soviet attack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Entanglement in Indochin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62012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isenhower refused military aid for French retention of colonial Indochina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ctory of Communist Ho Chi Minh prompted intervention to prevent el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etnam divided, election postpone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uth Vietnam under U.S. puppet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ontaining Chin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ugh line against Chin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rove wedge between China, Russ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rategy ultimately worke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ffects not immediately appar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urmoil in the Middle Eas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56: Nasser nationalized Suez Can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rance, England invaded Egyp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isenhower won Middle East trust by pressuring English, French withdraw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58: Lebanon invited U.S. troops to maintain ord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Division of Europ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5: Russians occupied eastern Europe,  American troops occupied western Europ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viet Union sought eastern European buffer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.S. demanded national self-determination through free elections throughout Europ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alin converted eastern Europe into a system of satellite nations 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overt Action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entral Intelligence Agency (CIA) used to achieve covert objectives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ran: CIA restored the shah to pow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uatemala: CIA ousts leftist govern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astern Europe: Refused to help East Germans or Hungaria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Waging Peac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uclear test ban treat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.S. and U.S.S.R. agreed to suspend  nuclear testing in the atmosphe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ctober, 1957: Russians launched </a:t>
            </a: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Sputni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ay, 1960: U-2 incident cancelled plans for summit on new Berlin Crisi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Continuing Cold War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January, 1961: Eisenhower warned against growing military-industrial complex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st-war era marked by Cold War rather than peace and tranquilit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Europe after World War II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762012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Withholding Economic Aid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ussia devastated by World War II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me Americans sought to influence Russia with Lend-Lease economic ai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5: United States halted Lend-Lease without Russian settle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verage lost in shaping Soviet polic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Atomic Dilemm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3: Nuclear race between U.S. and U.S.S.R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6: Baruch Plan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pid reduction of U.S. military for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adual reduction favored U.S. atomic monopol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viet Un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rger conventional army than U.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mmediate abolition of atomic weap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ontainmen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0866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7: George C. Marshall appointed Secretary of St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an Acheson:  England's former role as arbiter of world affai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orge Kennan: Called for “containment of Russia’s expansive tendencies”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Truman Doctrin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7: Truman sought funds to keep Greece, Turkey in Western sphere of influe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ruman Doctrine:  “Support free peoples who are resisting attempted subjugation by armed minorities or outside pressure”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octrine an informal declaration of cold war against the Soviet Un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Marshall Plan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7: George Marshall proposed aid for rebuilding European indus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ussia refused aid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8: Marshall Plan adopted by Congr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lan fostered western European prosperit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6T20:03:06Z</dcterms:created>
  <dc:creator>CMU</dc:creator>
  <dc:description/>
  <cp:keywords/>
  <dc:language>en-US</dc:language>
  <cp:lastModifiedBy>Teresa Ward User</cp:lastModifiedBy>
  <cp:lastPrinted>2012-04-19T01:07:11Z</cp:lastPrinted>
  <dcterms:modified xsi:type="dcterms:W3CDTF">2006-11-10T20:15:24Z</dcterms:modified>
  <cp:revision>8</cp:revision>
  <dc:subject/>
  <dc:title>CHAPTER 28 THE ONSET OF THE COLD WAR</dc:title>
</cp:coreProperties>
</file>